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2045-AA1A-47A1-938F-1C03EF32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F5F1-234F-4794-AC95-25FBD65A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292-A0A2-4444-A1D9-9F27D891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475-53AF-4BF0-9183-527554C9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15CE-0CF2-4844-8368-0A43E76B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51BA-CC7C-4758-922A-D1EFEF35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2478-4D94-4478-9937-A1E1C5E6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FE4F-BE66-41DE-85A1-BB6F95F7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1A8E-1A89-4E84-9942-959BDC21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AD81-9A8F-451F-A7DF-905A929D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E3B6-672C-4B95-A247-25427A30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6C7-4E37-4844-A29C-E1670BF8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5734-3EF5-4BE3-A20C-EDD6C1EB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9285-CF2B-4A9A-928C-C96B1C52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1FB7-F60E-4ED4-B815-5DFD7FD8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F804-9B61-42CE-8BA8-5FA4B399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9288-F343-4C20-9698-165D5C9EA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E0E-7E34-4ECC-BB0D-9FE3C937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466-8679-4828-9014-25CD0FE9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C73-800F-4AAC-A9BC-5CED1210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BDA4-781E-4E47-8779-595E460E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510-BD3F-4B20-87DB-BE9D7BA0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049-458D-4BD7-96CB-6650370D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05B-D1F2-480D-BB80-8D8DF55F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709B-234B-43F8-BD03-335626E57D4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8E68-7B61-4E29-8FA3-997AF3CCC50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enguins.cl/penguin/gentoo-penguins.jpg&amp;imgrefurl=http://www.penguins.cl/penguins-intro.htm&amp;h=480&amp;w=640&amp;sz=26&amp;hl=en&amp;start=2&amp;tbnid=KJR8VU2xdnxuDM:&amp;tbnh=103&amp;tbnw=137&amp;prev=/images%3Fq%3Dpenguins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ontereybay.com/creagrus/PenguinJck-Jul05CT-vertwl-w.jpg&amp;imgrefurl=http://cherubseries.proboards34.com/index.cgi%3Faction%3Dgotopost%26board%3Dtv%26thread%3D1201469506%26post%3D1201630515&amp;h=514&amp;w=500&amp;sz=52&amp;hl=en&amp;start=115&amp;tbnid=NJfWHvzRlAiLUM:&amp;tbnh=131&amp;tbnw=127&amp;prev=/images%3Fq%3Dpenguins%26start%3D100%26gbv%3D2%26ndsp%3D20%26hl%3Den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allpapers.dpics.org/wallpapers/15/Emperor_Penguins,_Weddell_Sea,_Antarctica.jpg&amp;imgrefurl=http://wallpapers.dpics.org/15__Emperor_Penguins,_Weddell_Sea,_Antarctica.htm&amp;h=768&amp;w=1024&amp;sz=257&amp;hl=en&amp;start=38&amp;tbnid=OTroQRXeG_feUM:&amp;tbnh=113&amp;tbnw=150&amp;prev=/images%3Fq%3Dpenguins%2Bin%2Bantarctica%26start%3D20%26gbv%3D2%26ndsp%3D20%26hl%3Den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oon.org/images-compressed/Eating-Fish.JPG&amp;imgrefurl=http://www.loon.org/loonfacts.html&amp;h=309&amp;w=450&amp;sz=22&amp;hl=en&amp;start=1&amp;tbnid=L7eslrEkgjqxPM:&amp;tbnh=87&amp;tbnw=127&amp;prev=/images%3Fq%3Dpenguins%2Beating%2Bfish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allpaper.net.au/wallpaper/movies/March%2520of%2520the%2520Penguins%25204%2520-%25201152x864.jpg&amp;imgrefurl=http://www.capecodtoday.com/blogs/index.php/Media/2006/&amp;h=864&amp;w=1152&amp;sz=202&amp;hl=en&amp;start=49&amp;tbnid=qACHzkTu9SmfCM:&amp;tbnh=112&amp;tbnw=150&amp;prev=/images%3Fq%3Dpenguins%26start%3D40%26gbv%3D2%26ndsp%3D20%26hl%3Den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olarcruises.com/Images/art_Penguins_emperor_and_chick.jpg&amp;imgrefurl=http://tallgirlrunning.blogspot.com/2008_01_01_archive.html&amp;h=359&amp;w=300&amp;sz=18&amp;hl=en&amp;start=40&amp;tbnid=oEBC93KkYmfzdM:&amp;tbnh=121&amp;tbnw=101&amp;prev=/images%3Fq%3Dpenguins%2Bin%2Bantarctica%26start%3D2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penguin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y: Rebecka Bradfor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nguins! Do you know about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nguins?  Well come and learn something about penguins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048120"/>
            <a:ext cx="42674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enguins live in Antarctica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tarctica is the coldest place on the earth!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have skin and a layer of blubber to help  keep them warm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581280"/>
            <a:ext cx="35816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enguins eat squid and small shrimp –like animals called krill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w do they get the fish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4038480"/>
            <a:ext cx="52578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enguins rest on floats of ice an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look under the ice to catch food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6553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nguins lay eggs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hin a few days of mating, the females lay an egg 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ut four to five days later, the females lay a second, slightly smaller eg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441972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parents do is interesting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other and father switch the baby or egg off every 12 to 15 days  Because they need to get food for themselv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4419720"/>
            <a:ext cx="4086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601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09480" y="367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094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Do you know about penguins now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39625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8:56:44Z</dcterms:modified>
  <cp:revision>5</cp:revision>
  <dc:subject/>
  <dc:title>Animal Name</dc:title>
</cp:coreProperties>
</file>